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6019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33360" y="3700080"/>
            <a:ext cx="6019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3336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1784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8440" y="91404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3520" y="91404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33360" y="370008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68440" y="370008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3520" y="370008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D69-BAB8-4AB6-8E63-B400A8BF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360" y="914040"/>
            <a:ext cx="6019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BE6-6AB9-4901-9F8C-DF7B6A3B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6019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683-D9F5-40AA-B721-98E46E81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11F-E866-4B86-9B1B-BC581ABC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CE6-09DB-41F4-B806-B3C6AB20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81E-16C1-443D-8EC9-59C5DCF8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36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29E-E7F9-4AD1-8DEC-2E8797C9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33360" y="914040"/>
            <a:ext cx="6019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1784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803-931C-4150-896E-DA4302DF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360" y="3700080"/>
            <a:ext cx="6019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F0A-7FB5-4F01-99D3-D39A9861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6019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360" y="3700080"/>
            <a:ext cx="6019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29D-FB32-41C2-AA8C-9560CDBE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36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1784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626-480D-4E96-BCDA-DF8DBEE0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8440" y="91404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520" y="91404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360" y="370008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68440" y="370008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520" y="3700080"/>
            <a:ext cx="193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D96-6F08-4271-A2C6-0959FA0D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6019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3336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17840" y="370008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36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17840" y="914040"/>
            <a:ext cx="2937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33360" y="3700080"/>
            <a:ext cx="6019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133360" y="914040"/>
            <a:ext cx="6019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0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71FE-F4F2-44B9-B7E3-7EB86FBF79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Delphi 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程序设计及其应用开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428640" y="4876560"/>
            <a:ext cx="34290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编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李存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R03" descr=""/>
          <p:cNvPicPr/>
          <p:nvPr/>
        </p:nvPicPr>
        <p:blipFill>
          <a:blip r:embed="rId1"/>
          <a:stretch/>
        </p:blipFill>
        <p:spPr>
          <a:xfrm>
            <a:off x="2971800" y="5105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320" y="13644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高等学校计算机基础课程系列教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36720" y="6172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帮助文件制作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6781680" cy="33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微软超文本帮助文件制作系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2  Delph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带的帮助文件制作系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7772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安装制作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2209320"/>
            <a:ext cx="639144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安装制作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2  InstallShie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使用实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153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434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欢迎您使用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endshow"/>
          </p:cNvPr>
          <p:cNvSpPr/>
          <p:nvPr/>
        </p:nvSpPr>
        <p:spPr>
          <a:xfrm>
            <a:off x="5486400" y="6373440"/>
            <a:ext cx="1222200" cy="398880"/>
          </a:xfrm>
          <a:prstGeom prst="rect">
            <a:avLst/>
          </a:prstGeom>
          <a:noFill/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6858000" y="6373440"/>
            <a:ext cx="1730520" cy="398880"/>
          </a:xfrm>
          <a:prstGeom prst="rect">
            <a:avLst/>
          </a:prstGeom>
          <a:noFill/>
          <a:ln w="22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0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3486240"/>
            <a:ext cx="53240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Arial"/>
              </a:rPr>
              <a:t>Delphi 6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程序设计及其应用开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演示文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Delphi 6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程序设计及其应用开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elphi 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快速入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Object Pascal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程序设计语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图形界面设计与项目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图形与图像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多媒体与动画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数据库编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创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服务器程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帮助文件制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章  安装制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Delphi 6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快速入门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80720" y="2209320"/>
            <a:ext cx="596124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1  Delphi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2  Delphi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安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3  Delphi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界面描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Object Pascal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程序设计语言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基本字符和符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常量与变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据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运算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过程与函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图形界面设计与项目管理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5333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菜单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具栏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态栏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钮及面板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本对象的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关窗体的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7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关代码编辑器的使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8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项目管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  图形与图像操作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680" y="2209680"/>
            <a:ext cx="2759040" cy="28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本概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例介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5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多媒体与动画操作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64436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画控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im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使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媒体控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ediaPlay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制作图片浏览器实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6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  数据库编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4343400" cy="29718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  Delph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系统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引擎管理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D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库桌面系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24280" y="2437920"/>
            <a:ext cx="4114800" cy="29718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集控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控制控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7  Decision Cub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8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报表控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7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创建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Arial"/>
              </a:rPr>
              <a:t>Web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服务器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1  Interne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2  We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服务器程序简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3  ISAP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编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4  CG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编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5  ISAPI D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G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间的相互转化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07:09:47Z</dcterms:created>
  <dc:creator>新人电脑</dc:creator>
  <dc:description/>
  <dc:language>en-US</dc:language>
  <cp:lastModifiedBy>新人电脑</cp:lastModifiedBy>
  <dcterms:modified xsi:type="dcterms:W3CDTF">2002-03-18T11:31:12Z</dcterms:modified>
  <cp:revision>11</cp:revision>
  <dc:subject/>
  <dc:title>Delphi 6程序设计及其应用开发</dc:title>
</cp:coreProperties>
</file>